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76F-6557-4B5A-A91E-A90D6CA7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EDE9-FD0F-4875-AB70-CEEE1CAF766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Roman Units: https://sites.google.com/a/solteacher.com/olteacher-com/home/third-grade-virginiasol-resources/3rd-grade-virginia-social-studies-sol-resources/3-2-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05C-44E0-4956-A5FE-725CAE01946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6-17 Title, Border, and Snap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9: Eating A Lot &amp; New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23 (all): Last picture/ca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D8BD-893C-44E2-A1A3-E94664797C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0859-262E-4585-A591-AF9142541F9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52D8-5552-4F88-90A5-F60D37EA364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AE0-EAE2-4E57-894B-0EAFA594058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words per page; font size; Sentence structure (n/v, length); vocabulary (academic, difficulty); Level that's on the book; pictures (lack = more challeng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(more common = easier); book thickness/number of pages (most likely more pages = more difficult); genre (informational, fictional, fantasy/mystery); dialogue; text formatting, text coh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: 15 sentences; 140 syllables (many one and two word sentenc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: 5.5 sentences (wow what a difference in sentence complexity) and 136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: 9.5 sentences; 120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 16.5/3 = 5.5 sent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yllables: 396/3 = 132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iddle of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 - 670 Lex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619-C8E3-488E-9855-B8687A43E2D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EE6-237C-45DF-8E80-D0B18436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B9B-F052-4450-B8E2-AAAD477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E38-856A-44F5-AE86-390DBC49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7FE-C104-4A5C-9E44-5C3EB568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64F-0563-49B9-82AB-E5673260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67DC-D76A-4F8F-91C0-D989B24C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0D88-C59E-47B8-B64A-6D52105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C5B4-2330-499D-B473-7EFA66D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8D73-F3C8-445C-A4C1-9896463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11E-05E2-4034-8B98-CA1CC19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744-A49D-4A7C-8DD3-91DB152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BF4-276F-4FD9-9ACF-CF58D2E6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CAC4-C5B0-4AA5-8288-4E283B5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A082-04C0-45FC-A512-3C22723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9725-F33F-4E9A-9996-456CF555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CA9F-754F-46F4-8795-138B46C8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ED0F-BF24-4116-B1E9-9CFA12CC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900-9B37-42A4-8E8B-B0C9DF7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DE3-BA99-448F-8244-8848224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972-CBCB-4086-9A1F-C44569B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854-C8F2-464B-8C74-71774343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79C-AAAE-4A4E-8A58-31426E0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325-E0C5-45F2-816A-5403D1D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8D2-AC4C-4798-916D-8B80D10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092F-4FBB-41CB-9002-794CDA87E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C504-BA98-496F-8A41-42803C3510F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lexile.com/fab/" TargetMode="External"/><Relationship Id="rId3" Type="http://schemas.openxmlformats.org/officeDocument/2006/relationships/hyperlink" Target="https://www.lexile.com/analyzer/" TargetMode="External"/><Relationship Id="rId4" Type="http://schemas.openxmlformats.org/officeDocument/2006/relationships/hyperlink" Target="http://bookwizard.scholastic.com/bookwizard/" TargetMode="External"/><Relationship Id="rId5" Type="http://schemas.openxmlformats.org/officeDocument/2006/relationships/hyperlink" Target="http://books.atozteacherstuff.com/leveled-books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llenging Texts and Measures of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Increased Expectations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About Text Complexity in CCS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7" name="Picture 5" descr="Screen shot 2013-02-25 at 9.29.56 PM.png"/>
          <p:cNvPicPr/>
          <p:nvPr/>
        </p:nvPicPr>
        <p:blipFill>
          <a:blip r:embed="rId1"/>
          <a:stretch/>
        </p:blipFill>
        <p:spPr>
          <a:xfrm>
            <a:off x="685800" y="1994040"/>
            <a:ext cx="8142120" cy="341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76320" y="5486400"/>
            <a:ext cx="8991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CSS Appendix A; Standard #10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Read and comprehend </a:t>
            </a: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literary and informational texts </a:t>
            </a:r>
            <a:br>
              <a:rPr sz="2400"/>
            </a:b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independently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proficiently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about the human factor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0" name="Picture 5" descr="Screen shot 2011-10-04 at 9.21.35 PM.png"/>
          <p:cNvPicPr/>
          <p:nvPr/>
        </p:nvPicPr>
        <p:blipFill>
          <a:blip r:embed="rId1"/>
          <a:stretch/>
        </p:blipFill>
        <p:spPr>
          <a:xfrm>
            <a:off x="3124080" y="2743200"/>
            <a:ext cx="3581640" cy="3268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838080" y="2133720"/>
            <a:ext cx="3440160" cy="1922760"/>
          </a:xfrm>
          <a:prstGeom prst="rect">
            <a:avLst/>
          </a:prstGeom>
          <a:solidFill>
            <a:srgbClr val="fab93d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UMAN RAT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evels of mean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anguage conventional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lar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nowledge demand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ready learned</a:t>
            </a:r>
            <a:r>
              <a:rPr b="0" lang="is-IS" sz="4400" spc="-1" strike="noStrike">
                <a:solidFill>
                  <a:srgbClr val="32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ository/Informational texts: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d organizational structures in same tex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cademic vocabulary; Lack of coherenc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ferential challenges and causal infer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ybrid texts: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 combines elements of narrative and exposition to convey information about natural or social worl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other strategies are ther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termining the resources and challenges that are in a particular tex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inish Panda Tex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ources and Challenges for two more section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Assignments for Homework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19: SNA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19: Eating A Lot &amp; New Arri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0: Getting Stronger &amp; Stepping 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1: Unexpected Guests &amp; Photos 21-2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2 A Shrinking Refuge &amp; Dwindling N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. 22: Unlocking the Secrets &amp; Wordwis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ooking for More Support of CCSS and Instructional Shift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1" name="Picture 3" descr="Screen Shot 2016-11-07 at 8.59.04 AM.png"/>
          <p:cNvPicPr/>
          <p:nvPr/>
        </p:nvPicPr>
        <p:blipFill>
          <a:blip r:embed="rId1"/>
          <a:stretch/>
        </p:blipFill>
        <p:spPr>
          <a:xfrm>
            <a:off x="685800" y="1897200"/>
            <a:ext cx="74674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i – I’m Dr. Coiro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ssing Panda Tex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ttp://uriedc423coiro.wikispaces.c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Part 4 in left menu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Panda Text.pdf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R Dr. Deeney’s EDC 423 wikispace under Class No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racticing in Groups:</a:t>
            </a:r>
            <a:br>
              <a:rPr sz="4000"/>
            </a:br>
            <a:r>
              <a:rPr b="0" i="1" lang="en-US" sz="4000" spc="-1" strike="noStrike">
                <a:solidFill>
                  <a:srgbClr val="320000"/>
                </a:solidFill>
                <a:latin typeface="Arial"/>
              </a:rPr>
              <a:t>Panda Mania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8600" y="2062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Main Idea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Big Idea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Learning Goals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ssigned pages: Text challenges and resources to comprehens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would you launch the text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ssigned pages: Potential stopping points and questions to ask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to follow-up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are we in the semester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ore Areas of Reading / Factor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that influence comprehens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Reader factors and contextual factor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motivation, interests, skills from interview, language differenc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Other factors: Texts, tasks, and teaching practice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icit teaching &gt; I do, we do, you do)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What is comprehension?  And informational text structures</a:t>
            </a:r>
            <a:r>
              <a:rPr b="1" lang="is-IS" sz="2000" spc="-1" strike="noStrike">
                <a:solidFill>
                  <a:srgbClr val="33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Designing Guided Reading Supports to build students’ comprehension of hybrid texts (MTH Unit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ilding students’ comprehension of informational text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ilding comprehension of narrative text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ssing higher level comprehension skill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sources &amp; Challenges in these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8" name="Picture 3" descr="Screen Shot 2016-11-14 at 10.30.36 PM.png"/>
          <p:cNvPicPr/>
          <p:nvPr/>
        </p:nvPicPr>
        <p:blipFill>
          <a:blip r:embed="rId1"/>
          <a:stretch/>
        </p:blipFill>
        <p:spPr>
          <a:xfrm>
            <a:off x="231840" y="2438280"/>
            <a:ext cx="883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anda Mania (1</a:t>
            </a:r>
            <a:r>
              <a:rPr b="0" lang="en-US" sz="4400" spc="-1" strike="noStrike" baseline="30000">
                <a:solidFill>
                  <a:srgbClr val="32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two para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371240"/>
            <a:ext cx="7556400" cy="53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in idea: Pandas eat bamboo (how/what)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P: After first two paragraphs (</a:t>
            </a:r>
            <a:r>
              <a:rPr b="0" i="1" lang="en-US" sz="1800" spc="-1" strike="noStrike">
                <a:solidFill>
                  <a:srgbClr val="330000"/>
                </a:solidFill>
                <a:latin typeface="Arial"/>
              </a:rPr>
              <a:t>smacks her lips as she chew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: So, what do we know so far? 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: She’s eating bambo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: 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But the author told us here that the bamboo “piles up on her lap.”  How can it pile up if she’s eating it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:  she’s eating the inside part.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:  How do you know that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NOTE:  Kids may not get this.  If not, back up: </a:t>
            </a:r>
            <a:br>
              <a:rPr sz="1400"/>
            </a:b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Let’s read that part again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She nibbles the green leaves.”  So what has she done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Eaten the leaves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“Finally she bites the stem. The bamboo snaps.”  What does that mean?  What’s the panda doing to the bamboo? 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Breaking it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Then it says, “inside the stem, the bamboo is soft.  The panda smacks her lips as she chews.”  So what is she really eating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The inside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Q:  So what does the author mean when she says the bamboo is piling up in the panda’s lap?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</a:rPr>
              <a:t>A:  All the stems are piling up—the parts that she doesn’t eat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.  Let’s to find out more about the panda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section of Pandamani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2133720"/>
            <a:ext cx="75564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Main idea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TOP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rpose:  Let’s read the next section to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section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2209320"/>
            <a:ext cx="75564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Main idea: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TOP: (indicate text section read in left column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iscussion Sequence (in right column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rpose:  Let’s read the next section to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ample from </a:t>
            </a: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Chrysanthemu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hrysanthemum plan JPEG.jpg"/>
          <p:cNvPicPr/>
          <p:nvPr/>
        </p:nvPicPr>
        <p:blipFill>
          <a:blip r:embed="rId2"/>
          <a:stretch/>
        </p:blipFill>
        <p:spPr>
          <a:xfrm>
            <a:off x="338040" y="853920"/>
            <a:ext cx="861084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 (Set a purpos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examples of what makes a text challenging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easures are available to help determine the difficulty level of a tex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lculate readability using Fry’s formul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alyze an informational text to identify resources and challeng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ext Complexity Facto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A6B-E703-4562-9659-CDBEB387491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9" name="Picture 5" descr="Screen shot 2011-10-04 at 9.21.35 PM.png"/>
          <p:cNvPicPr/>
          <p:nvPr/>
        </p:nvPicPr>
        <p:blipFill>
          <a:blip r:embed="rId1"/>
          <a:stretch/>
        </p:blipFill>
        <p:spPr>
          <a:xfrm>
            <a:off x="2819520" y="2448000"/>
            <a:ext cx="3581280" cy="326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750960" y="1838160"/>
            <a:ext cx="3440160" cy="1922760"/>
          </a:xfrm>
          <a:prstGeom prst="rect">
            <a:avLst/>
          </a:prstGeom>
          <a:solidFill>
            <a:srgbClr val="fab93d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UMAN RAT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evels of mean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anguage conventional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larit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nowledge demand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29200" y="1838160"/>
            <a:ext cx="3440160" cy="1922760"/>
          </a:xfrm>
          <a:prstGeom prst="rect">
            <a:avLst/>
          </a:prstGeom>
          <a:solidFill>
            <a:srgbClr val="e06030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UTER SCORE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ord length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ord frequency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entence length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ext Cohe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Co-Metrix and Lexile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295280" y="5064120"/>
            <a:ext cx="2133720" cy="1435320"/>
          </a:xfrm>
          <a:prstGeom prst="rect">
            <a:avLst/>
          </a:prstGeom>
          <a:solidFill>
            <a:srgbClr val="a6a6a6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erienc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943600" y="5116680"/>
            <a:ext cx="2525760" cy="1435320"/>
          </a:xfrm>
          <a:prstGeom prst="rect">
            <a:avLst/>
          </a:prstGeom>
          <a:solidFill>
            <a:srgbClr val="a6a6a6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urpose/Contex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estions Posed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750960" y="95256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on Core Standards, Appendix 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makes a text difficult to read? (or complex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vel of coherenc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lots of connections (informational text markers; first, next; if &gt; then, ) or if readers need to make lots of inferenc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enr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narrative (easier) than informational (harder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Vocabular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at grade level (easier); length, root words vs. prefixes/suffixes;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ext features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itle, headings, bolded words, boxes (footnotes, captions, glossary); graphs, diagrams, tables, summary ques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No repetition: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re (easier); less (harder) and length of the sentence: short (easier) longer (harder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implistic Versions of Computing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ry Readability Formul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ntence Length and Word Leng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 Random 100-word samp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unt and average # of sent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unt # of syllables in 100 words; average across three samp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 the intersection of average sentences (side) and average syllables (bottom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5" descr="Screen shot 2011-10-04 at 9.30.52 PM.png"/>
          <p:cNvPicPr/>
          <p:nvPr/>
        </p:nvPicPr>
        <p:blipFill>
          <a:blip r:embed="rId1"/>
          <a:srcRect l="38991" t="0" r="0" b="0"/>
          <a:stretch/>
        </p:blipFill>
        <p:spPr>
          <a:xfrm>
            <a:off x="228600" y="174600"/>
            <a:ext cx="8721720" cy="592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06080" y="632448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Verdana"/>
              </a:rPr>
              <a:t>ONLY CONSIDERS 2 LIMITED TEXT FEA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3" name="Picture 3" descr="Screen Shot 2016-11-07 at 8.42.37 AM.pn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ther Measures of Text Difficul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676520"/>
            <a:ext cx="81532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Quickly find readability of a book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xile Leve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f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ok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 text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wrote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olasti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-Z Level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Juicy Studio (readability of a websit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ype text into MS Word &gt; Spelling/Grammar chec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xile Levels (www.lexile.com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grades go with what levels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vels Correlation Table: Guided Reading / Reading Recovery / Reading A-Z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0:55:11Z</dcterms:created>
  <dc:creator>Julie Coiro</dc:creator>
  <dc:description/>
  <dc:language>en-US</dc:language>
  <cp:lastModifiedBy>Julie Coiro</cp:lastModifiedBy>
  <dcterms:modified xsi:type="dcterms:W3CDTF">2017-11-10T11:57:17Z</dcterms:modified>
  <cp:revision>325</cp:revision>
  <dc:subject/>
  <dc:title>Metacognitive Strategy Instruction to Enhance Reading Comprehension</dc:title>
</cp:coreProperties>
</file>